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7.jpeg" ContentType="image/jpeg"/>
  <Override PartName="/ppt/media/image33.wmf" ContentType="image/x-wmf"/>
  <Override PartName="/ppt/media/image13.png" ContentType="image/png"/>
  <Override PartName="/ppt/media/image11.png" ContentType="image/png"/>
  <Override PartName="/ppt/media/image7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10.jpeg" ContentType="image/jpeg"/>
  <Override PartName="/ppt/media/image1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20D-F863-46DF-A856-685B0468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447-DF99-4431-AC8C-3478720E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D3C-A1D8-4922-BA9B-7FEE6FCF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3A0-1D21-47F5-8538-5F9ED03E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9D7-B1A1-421B-9D4A-AED30FEE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D0A-3042-4580-8F59-548D4EB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4A80-9FFD-46E6-BD35-941D95D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99F-884D-435D-91E6-B6B57D6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1AD-3B9D-412D-ADF5-FE279B0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3C7E-3A18-46BA-8F03-C93E3C3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DF3-EF48-4BDC-A067-7191853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FBF-4CE8-461C-95C5-C5D0F03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414-EE28-4BDC-9C87-82C1E65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A3D-50C0-4CFF-AC9E-5526EA9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6617-36B3-4F6C-B231-B56877B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7E0-5869-4DF2-898D-1192DFC7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3C2B-9C49-48E3-A1C4-4ECF5D30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866-5555-49E9-92AF-36D89B1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90E-D236-4FB6-9D66-17A343F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D91-30FA-408B-9215-2689199A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1A6-BE2B-40B9-9363-63D51A3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4A7-2741-4BA2-8C70-4B3DC98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FF8-6383-40B9-B979-C004840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FA8-86E2-44B7-9A12-29A1821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FDB7-0A4B-4C45-ADF5-74EB47F23BA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23A1-2975-4651-BC8E-B6A408BE335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ruslania.com/pictures/big/103513-Krokodil_Gena.jpg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hyperlink" Target="http://www.ruskniga.com/images_c.asp?path=E%3A%5Cwww%5Cruskniga.com%5Cpicfsite/41325.jpg&amp;Width=200" TargetMode="External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Родительское собрание на тему: «Чтение – это важ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 Гёте: «Добрые люди и не подозревают, каких трудов и времени стоит научиться читать. Я сам на это употребил 80 лет и всё не могу сказать, что достиг це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Амосов: «Для человеческого организма благоприятен только режим напряжения. Силы при напряжении возрастаю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н Фёдоров «Азбу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4" descr="http://urokirus.com/online/images/stories/fedorov.jpg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5" descr="http://expositions.nlr.ru/ABC/images/5.jpg"/>
          <p:cNvPicPr/>
          <p:nvPr/>
        </p:nvPicPr>
        <p:blipFill>
          <a:blip r:embed="rId2"/>
          <a:stretch/>
        </p:blipFill>
        <p:spPr>
          <a:xfrm>
            <a:off x="5202360" y="1600200"/>
            <a:ext cx="293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Ф. Бурцев «Буквар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4" descr="http://im2-tub-ru.yandex.net/i?id=310068641-63-72&amp;n=21"/>
          <p:cNvPicPr/>
          <p:nvPr/>
        </p:nvPicPr>
        <p:blipFill>
          <a:blip r:embed="rId1"/>
          <a:stretch/>
        </p:blipFill>
        <p:spPr>
          <a:xfrm>
            <a:off x="2500200" y="23572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.Д. Ушинский «Детский ми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7" descr="http://webhp.ksu.ks.ua/joomla/person/Ushinsky.gif"/>
          <p:cNvPicPr/>
          <p:nvPr/>
        </p:nvPicPr>
        <p:blipFill>
          <a:blip r:embed="rId1"/>
          <a:stretch/>
        </p:blipFill>
        <p:spPr>
          <a:xfrm>
            <a:off x="1143000" y="171468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9" descr="http://nashaucheba.ru/docs/23/22524/conv_1/file1_html_4225b47e.png"/>
          <p:cNvPicPr/>
          <p:nvPr/>
        </p:nvPicPr>
        <p:blipFill>
          <a:blip r:embed="rId2"/>
          <a:stretch/>
        </p:blipFill>
        <p:spPr>
          <a:xfrm>
            <a:off x="484668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– это ва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а будит эмо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412596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олог И. Пав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П.Павлов утверждал, что эмоции являются для человека своеобразным и весьма сильным энергетическим источником. Читая книгу, ребёнок радуется, переживает, удивляется, сострадает, и всё это – эмоции, они нуж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нет положительных «зарядов», легко могут пойти в ход и отрицательные. Наступает эмоциональный «голо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4" descr="http://s020.radikal.ru/i707/1212/eb/37de9e38add4.jpg"/>
          <p:cNvPicPr/>
          <p:nvPr/>
        </p:nvPicPr>
        <p:blipFill>
          <a:blip r:embed="rId1"/>
          <a:stretch/>
        </p:blipFill>
        <p:spPr>
          <a:xfrm>
            <a:off x="72216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вышает интел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ебёнок систематически не читает, то он упускает около 14% доступной ем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ение сегодня – способ соответствовать времени, его скоростям и жёстким требова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357880" y="1549440"/>
            <a:ext cx="3214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могает в учё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рошо читающий ребёнок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стро улавливает смысл прочитанного, выделяет главно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твечает на вопросы по прочитанн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большую орфографическую «зоркость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дает большим объёмом информац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риентируется во всех предмета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навыки поиска и обобщения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219560" y="1857240"/>
            <a:ext cx="381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и формируют самообразовательны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ившись к чтению, ребёнок освобождается от зависимости и опек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знает, какой бы вопрос не возник, ответ можно найти в волшебнице-книге, которая мудрее все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хема 3" descr=""/>
          <p:cNvPicPr/>
          <p:nvPr/>
        </p:nvPicPr>
        <p:blipFill>
          <a:blip r:embed="rId1"/>
          <a:stretch/>
        </p:blipFill>
        <p:spPr>
          <a:xfrm>
            <a:off x="841320" y="2279520"/>
            <a:ext cx="61326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ый веч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одному не надо давать рыбу. Он ее скушает за день. Надо ему дать удочку и научить его ловить рыбу и тогда он сможет ловить ее каждый день и перестанет быть голодным». (Древняя китайская мудр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буждает к нравственным поступ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, окружающая действительность не всегда «изобилует» уроками высокой нравственности. И вера в доброе, светлое, поддерживается образами любимых героев, на которых хочется походить, поступки которых восхищ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а – ценный источник знаний о нормах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3500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воспитать книгоче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ребёнка очень влияет то, читают ли родители сами или нет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до поддерживать интерес к чтению у ребён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омочь маленькие родительские «хитрост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до дарить ребёнку красивые книги, ориентируясь на его интерес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до запастись терпением, не упрекать ребёнка за то, что у него с чтением «туго», ободрить его, хвалить за маленькие «шажк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телям стоит превратиться в «Незнайк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и кни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ига – носитель и хранитель национального наследия, воспитатель духовности, «противовес» многим негативным процессам в окружающем ребёнка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йте сами, читаёте вместе с детьми и вы одухотворите свою жизнь прекрасными образ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путь нелёгок, но он прекрасен, поскольку ведёт к вершинам нравственности и понимания высокого предназначения Человека в этом мир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https://pp.userapi.com/c849524/v849524765/bf3c4/_j_wfpRInLw.jpg"/>
          <p:cNvPicPr/>
          <p:nvPr/>
        </p:nvPicPr>
        <p:blipFill>
          <a:blip r:embed="rId1"/>
          <a:stretch/>
        </p:blipFill>
        <p:spPr>
          <a:xfrm>
            <a:off x="2484360" y="981000"/>
            <a:ext cx="453564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. Сухомлинский в период исследования причин умственной отсталости школьников заметил, что если в младших классах дети мало уделяли времени процессу чтения и обработки полученной информации, то у них складывалась структура малодеятельности моз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medium_1307142712_spisok-knig-dlya-chteniya-letom-3-klass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785880" y="5889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pic>
        <p:nvPicPr>
          <p:cNvPr id="102" name="Picture 4" descr="91263"/>
          <p:cNvPicPr/>
          <p:nvPr/>
        </p:nvPicPr>
        <p:blipFill>
          <a:blip r:embed="rId2"/>
          <a:stretch/>
        </p:blipFill>
        <p:spPr>
          <a:xfrm>
            <a:off x="0" y="357120"/>
            <a:ext cx="8858160" cy="592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92149"/>
          <p:cNvPicPr/>
          <p:nvPr/>
        </p:nvPicPr>
        <p:blipFill>
          <a:blip r:embed="rId3"/>
          <a:stretch/>
        </p:blipFill>
        <p:spPr>
          <a:xfrm>
            <a:off x="5778360" y="-365040"/>
            <a:ext cx="3657600" cy="463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77910"/>
          <p:cNvPicPr/>
          <p:nvPr/>
        </p:nvPicPr>
        <p:blipFill>
          <a:blip r:embed="rId4"/>
          <a:stretch/>
        </p:blipFill>
        <p:spPr>
          <a:xfrm>
            <a:off x="1671480" y="1785960"/>
            <a:ext cx="5926320" cy="39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mage1136"/>
          <p:cNvPicPr/>
          <p:nvPr/>
        </p:nvPicPr>
        <p:blipFill>
          <a:blip r:embed="rId5"/>
          <a:stretch/>
        </p:blipFill>
        <p:spPr>
          <a:xfrm>
            <a:off x="-6480" y="4206960"/>
            <a:ext cx="236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689"/>
          <p:cNvPicPr/>
          <p:nvPr/>
        </p:nvPicPr>
        <p:blipFill>
          <a:blip r:embed="rId6"/>
          <a:stretch/>
        </p:blipFill>
        <p:spPr>
          <a:xfrm>
            <a:off x="357120" y="214200"/>
            <a:ext cx="3853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571680" y="463680"/>
            <a:ext cx="7858080" cy="589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Рисунок1"/>
          <p:cNvPicPr/>
          <p:nvPr/>
        </p:nvPicPr>
        <p:blipFill>
          <a:blip r:embed="rId2"/>
          <a:stretch/>
        </p:blipFill>
        <p:spPr>
          <a:xfrm>
            <a:off x="214200" y="285840"/>
            <a:ext cx="1530360" cy="159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253494"/>
          <p:cNvPicPr/>
          <p:nvPr/>
        </p:nvPicPr>
        <p:blipFill>
          <a:blip r:embed="rId3"/>
          <a:stretch/>
        </p:blipFill>
        <p:spPr>
          <a:xfrm>
            <a:off x="5619600" y="7920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humb_56557"/>
          <p:cNvPicPr/>
          <p:nvPr/>
        </p:nvPicPr>
        <p:blipFill>
          <a:blip r:embed="rId4"/>
          <a:stretch/>
        </p:blipFill>
        <p:spPr>
          <a:xfrm>
            <a:off x="4175280" y="390600"/>
            <a:ext cx="1062000" cy="352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000264302"/>
          <p:cNvPicPr/>
          <p:nvPr/>
        </p:nvPicPr>
        <p:blipFill>
          <a:blip r:embed="rId5"/>
          <a:stretch/>
        </p:blipFill>
        <p:spPr>
          <a:xfrm>
            <a:off x="407880" y="2646360"/>
            <a:ext cx="1390680" cy="394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03513-Krokodil_Ge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64520" y="2292480"/>
            <a:ext cx="1139760" cy="377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eduard_uspenskij--dyadya_fedor__pes_i_kot"/>
          <p:cNvPicPr/>
          <p:nvPr/>
        </p:nvPicPr>
        <p:blipFill>
          <a:blip r:embed="rId8"/>
          <a:stretch/>
        </p:blipFill>
        <p:spPr>
          <a:xfrm>
            <a:off x="5419800" y="3645000"/>
            <a:ext cx="1493640" cy="47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1000505498"/>
          <p:cNvPicPr/>
          <p:nvPr/>
        </p:nvPicPr>
        <p:blipFill>
          <a:blip r:embed="rId9"/>
          <a:stretch/>
        </p:blipFill>
        <p:spPr>
          <a:xfrm>
            <a:off x="2109960" y="201600"/>
            <a:ext cx="1535040" cy="510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Club_93637"/>
          <p:cNvPicPr/>
          <p:nvPr/>
        </p:nvPicPr>
        <p:blipFill>
          <a:blip r:embed="rId10"/>
          <a:stretch/>
        </p:blipFill>
        <p:spPr>
          <a:xfrm>
            <a:off x="1785960" y="4048200"/>
            <a:ext cx="1712880" cy="387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solnce"/>
          <p:cNvPicPr/>
          <p:nvPr/>
        </p:nvPicPr>
        <p:blipFill>
          <a:blip r:embed="rId11"/>
          <a:stretch/>
        </p:blipFill>
        <p:spPr>
          <a:xfrm>
            <a:off x="7272360" y="-666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107800"/>
          <p:cNvPicPr/>
          <p:nvPr/>
        </p:nvPicPr>
        <p:blipFill>
          <a:blip r:embed="rId12"/>
          <a:stretch/>
        </p:blipFill>
        <p:spPr>
          <a:xfrm>
            <a:off x="7223040" y="4359240"/>
            <a:ext cx="1560600" cy="448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4132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33640" y="4578480"/>
            <a:ext cx="1281240" cy="370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book3"/>
          <p:cNvPicPr/>
          <p:nvPr/>
        </p:nvPicPr>
        <p:blipFill>
          <a:blip r:embed="rId15"/>
          <a:stretch/>
        </p:blipFill>
        <p:spPr>
          <a:xfrm>
            <a:off x="3693960" y="2365200"/>
            <a:ext cx="13226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тении языком стати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еловек воспринимает глазами 20%  информации, из них 70% - посредством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1980 году объём информации удваивался  каждые 5-7 лет, к 1990 году удвоение происходило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2013 году объём информации по сравнению с 1990 годом возрастёт в 4 раза, к 2040 году – в 32 раз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тверждается , что наш современник, для того, чтобы быть в курсе научных новостей, в год должен прочитывать столько, сколько раньше он прочитывал за всю жизн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5% людей читают очень медленно 180-200 слов  в минуту (1 страницу за 1,5-2 мину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корость чтения старшеклассников – 90-100 слов в минуту, студентов – 120-180, специалистов с высшим образованием – 200- 250 (степень усвоения при этом колеблется в пределах 20-6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за человека со средними навыками чтения делают на одной книжной странице 12-16 остан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традиционно читающего человека объём одномоментной фиксации  составляет 10 печатных знаков – 1,5-2 слова  одной стро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ясающе быстро читали Ж.Ж.Руссо, А.С.Пушкин, Наполеон, О.де Бальзак, Н.Г.Чернышевский, Л.Н.Толстой, В.И.Ленин, М.Горький, А.Энштейн, А.В.Луначарс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олеон читал со скоростью 2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. де Бальзак прочитывал роман в двести страниц за полча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.Горький читал со скоростью 4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светитель Н.А.Рубакин в течение жизни прочитал более  200 тыс. книг (по 2 750 в год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0:34Z</dcterms:created>
  <dc:creator>Лена</dc:creator>
  <dc:description/>
  <dc:language>en-US</dc:language>
  <cp:lastModifiedBy>User</cp:lastModifiedBy>
  <dcterms:modified xsi:type="dcterms:W3CDTF">2018-11-25T16:26:47Z</dcterms:modified>
  <cp:revision>78</cp:revision>
  <dc:subject/>
  <dc:title>Семейное чтение</dc:title>
</cp:coreProperties>
</file>